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9.jpeg" ContentType="image/jpeg"/>
  <Override PartName="/ppt/media/image8.jpeg" ContentType="image/jpeg"/>
  <Override PartName="/ppt/media/image10.jpeg" ContentType="image/jpeg"/>
  <Override PartName="/ppt/media/image18.png" ContentType="image/png"/>
  <Override PartName="/ppt/media/image15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5E29C0-5D42-4BCE-B43B-50F354C93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3F3523-DB44-48F3-A7B8-2A2470B8A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65CE3F-C2DB-45F0-8B8F-08514D1DA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BC6E7F-C21A-46AF-A51A-41754E72C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586E9-ACF9-4FDB-9FB6-F61FD8A72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8CF14-FD1B-4A2E-9E33-E71605E11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EAFDA-6568-424B-BCC4-FF5C1A168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B67FC-D082-405A-92F0-AF6C9B324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9BCBC-A0EE-4739-A8C3-E4E69E414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0B46D-C557-481B-AD27-18854E966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7DA3A-DDFC-41F8-B648-9F6193B58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B02C06-4281-4CD6-A99E-717684538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5D5C8-955A-4EA9-A3EE-90F6FC84E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09059-C2C3-42E3-B184-7B6EF426B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BCE35-9E53-46D7-B6E5-1DF184ABF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549BB-9E6C-4749-907B-E2F6D46EA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FE2DE-6705-4C89-B8E3-B0226AE78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DFD7B6-F616-414F-88F9-AFD30544C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D03303-7EFA-424C-A6C5-EEBEB6C62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95D5AE-8E0F-449C-8F18-3CEDF0CD1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F170CE-93B2-4297-8F2C-67A71E3AA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ADC719-0493-4309-A142-0F56159B3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26C390-A9A4-40B1-8234-FA00C4069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CFC60D-EB53-43FB-AFDC-2AECA5FF8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C8692-BBA4-4583-ABE3-955BB8478456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cc66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c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c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cc66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62184-CF62-4B1F-BC8D-8861300F085B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lang="ru-RU" sz="5400" spc="-1" strike="noStrike">
                <a:solidFill>
                  <a:srgbClr val="ffffff"/>
                </a:solidFill>
                <a:latin typeface="Monotype Corsiva"/>
              </a:rPr>
              <a:t>Основные понятия химии.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стекло9"/>
          <p:cNvPicPr/>
          <p:nvPr/>
        </p:nvPicPr>
        <p:blipFill>
          <a:blip r:embed="rId1"/>
          <a:stretch/>
        </p:blipFill>
        <p:spPr>
          <a:xfrm>
            <a:off x="6732720" y="333360"/>
            <a:ext cx="1439640" cy="12952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5" descr="стекло8"/>
          <p:cNvPicPr/>
          <p:nvPr/>
        </p:nvPicPr>
        <p:blipFill>
          <a:blip r:embed="rId2"/>
          <a:stretch/>
        </p:blipFill>
        <p:spPr>
          <a:xfrm>
            <a:off x="468360" y="4370400"/>
            <a:ext cx="2232000" cy="22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Химические явл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49068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Явления, в резуль-тате которы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99"/>
                </a:solidFill>
                <a:latin typeface="Arial"/>
              </a:rPr>
              <a:t>образуются новые вещества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, облада-ющие новыми хими-ческими свойства-ми,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пример:из углекислого газа и воды в клетках деревьев образу-ется глюкоза и кислоро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5" descr="деревья-рис.3"/>
          <p:cNvPicPr/>
          <p:nvPr/>
        </p:nvPicPr>
        <p:blipFill>
          <a:blip r:embed="rId1"/>
          <a:stretch/>
        </p:blipFill>
        <p:spPr>
          <a:xfrm>
            <a:off x="5435640" y="1700280"/>
            <a:ext cx="352908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5" descr="3-05"/>
          <p:cNvPicPr/>
          <p:nvPr/>
        </p:nvPicPr>
        <p:blipFill>
          <a:blip r:embed="rId1"/>
          <a:stretch/>
        </p:blipFill>
        <p:spPr>
          <a:xfrm>
            <a:off x="755640" y="1268280"/>
            <a:ext cx="7920000" cy="540072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6"/>
          <p:cNvSpPr/>
          <p:nvPr/>
        </p:nvSpPr>
        <p:spPr>
          <a:xfrm>
            <a:off x="808200" y="423720"/>
            <a:ext cx="779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33"/>
                </a:solidFill>
                <a:latin typeface="Arial"/>
              </a:rPr>
              <a:t>Что необходимо растению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Физические явл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95640" y="1981080"/>
            <a:ext cx="4897440" cy="46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Явления, при кото-рых </a:t>
            </a:r>
            <a:r>
              <a:rPr b="0" i="1" lang="ru-RU" sz="3600" spc="-1" strike="noStrike">
                <a:solidFill>
                  <a:srgbClr val="000099"/>
                </a:solidFill>
                <a:latin typeface="Arial"/>
              </a:rPr>
              <a:t>изменяются агрегатное состояние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, форма тела,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пример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мерзание воды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ей) или кипячение воды (пар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5" descr="лед на ветках-рис.8"/>
          <p:cNvPicPr/>
          <p:nvPr/>
        </p:nvPicPr>
        <p:blipFill>
          <a:blip r:embed="rId1"/>
          <a:stretch/>
        </p:blipFill>
        <p:spPr>
          <a:xfrm>
            <a:off x="324000" y="1989000"/>
            <a:ext cx="348120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79280" y="457200"/>
            <a:ext cx="8785440" cy="110016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Уравнение химической реак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Уравнение – условная запись химического процесса, в которой используются химические символы, математические знаки и иные символы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цесс « При взаимодействии молекул водорода и кислорода образуются молекулы воды», можно записать в виде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равне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99"/>
                </a:solidFill>
                <a:latin typeface="Arial"/>
              </a:rPr>
              <a:t>2Н</a:t>
            </a:r>
            <a:r>
              <a:rPr b="1" i="1" lang="ru-RU" sz="2800" spc="-1" strike="noStrike" baseline="-25000">
                <a:solidFill>
                  <a:srgbClr val="000099"/>
                </a:solidFill>
                <a:latin typeface="Arial"/>
              </a:rPr>
              <a:t>2 </a:t>
            </a:r>
            <a:r>
              <a:rPr b="1" i="1" lang="ru-RU" sz="2800" spc="-1" strike="noStrike">
                <a:solidFill>
                  <a:srgbClr val="000099"/>
                </a:solidFill>
                <a:latin typeface="Arial"/>
              </a:rPr>
              <a:t>+ О</a:t>
            </a:r>
            <a:r>
              <a:rPr b="1" i="1" lang="ru-RU" sz="2800" spc="-1" strike="noStrike" baseline="-25000">
                <a:solidFill>
                  <a:srgbClr val="000099"/>
                </a:solidFill>
                <a:latin typeface="Arial"/>
              </a:rPr>
              <a:t>2</a:t>
            </a:r>
            <a:r>
              <a:rPr b="1" i="1" lang="ru-RU" sz="2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→ 2 Н</a:t>
            </a:r>
            <a:r>
              <a:rPr b="1" i="1" lang="ru-RU" sz="2800" spc="-1" strike="noStrike" baseline="-25000">
                <a:solidFill>
                  <a:srgbClr val="000099"/>
                </a:solidFill>
                <a:latin typeface="Times New Roman"/>
                <a:ea typeface="Times New Roman"/>
              </a:rPr>
              <a:t>2</a:t>
            </a:r>
            <a:r>
              <a:rPr b="1" i="1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Ато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(от греч. </a:t>
            </a:r>
            <a:r>
              <a:rPr b="0" lang="ru-RU" sz="3600" spc="-1" strike="noStrike">
                <a:solidFill>
                  <a:srgbClr val="990033"/>
                </a:solidFill>
                <a:latin typeface="Arial"/>
              </a:rPr>
              <a:t>atomos – неделимый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), наименьшая частица химическог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элемента, носитель его свойств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Элементы химические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овокупности атомов с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пределенным зарядом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ядра Z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4" descr="1атом на иранских деньгах"/>
          <p:cNvPicPr/>
          <p:nvPr/>
        </p:nvPicPr>
        <p:blipFill>
          <a:blip r:embed="rId1"/>
          <a:stretch/>
        </p:blipFill>
        <p:spPr>
          <a:xfrm>
            <a:off x="684360" y="3573360"/>
            <a:ext cx="251928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9558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Молекула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39640" y="169992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новолат. </a:t>
            </a:r>
            <a:r>
              <a:rPr b="0" lang="ru-RU" sz="3200" spc="-1" strike="noStrike">
                <a:solidFill>
                  <a:srgbClr val="990033"/>
                </a:solidFill>
                <a:latin typeface="Arial"/>
              </a:rPr>
              <a:t>molecula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уменьшит. от лат. </a:t>
            </a:r>
            <a:r>
              <a:rPr b="0" lang="ru-RU" sz="3200" spc="-1" strike="noStrike">
                <a:solidFill>
                  <a:srgbClr val="990033"/>
                </a:solidFill>
                <a:latin typeface="Arial"/>
              </a:rPr>
              <a:t>moles – масс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икрочастица, образованная из двух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или большего числа атомов и способная к самостоятельному существованию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4" descr="молекулы"/>
          <p:cNvPicPr/>
          <p:nvPr/>
        </p:nvPicPr>
        <p:blipFill>
          <a:blip r:embed="rId1"/>
          <a:stretch/>
        </p:blipFill>
        <p:spPr>
          <a:xfrm>
            <a:off x="684360" y="4149720"/>
            <a:ext cx="2663640" cy="215892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5"/>
          <p:cNvSpPr/>
          <p:nvPr/>
        </p:nvSpPr>
        <p:spPr>
          <a:xfrm>
            <a:off x="3543480" y="6184800"/>
            <a:ext cx="506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Шаростержневая модель молекул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9558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Ион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(от греч. </a:t>
            </a:r>
            <a:r>
              <a:rPr b="0" lang="ru-RU" sz="3600" spc="-1" strike="noStrike">
                <a:solidFill>
                  <a:srgbClr val="990033"/>
                </a:solidFill>
                <a:latin typeface="Arial"/>
              </a:rPr>
              <a:t>ion – идущий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)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дноатомные или многоатомные частицы, несущие электрический заряд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Положительные ионы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называют </a:t>
            </a:r>
            <a:r>
              <a:rPr b="0" i="1" lang="ru-RU" sz="2800" spc="-1" strike="noStrike">
                <a:solidFill>
                  <a:srgbClr val="990033"/>
                </a:solidFill>
                <a:latin typeface="Arial"/>
              </a:rPr>
              <a:t>катионами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от греч. kation, буквально – идущий вниз)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(атом) H</a:t>
            </a:r>
            <a:r>
              <a:rPr b="0" lang="ru-RU" sz="2800" spc="-1" strike="noStrike" baseline="30000">
                <a:solidFill>
                  <a:srgbClr val="000099"/>
                </a:solidFill>
                <a:latin typeface="Arial"/>
              </a:rPr>
              <a:t>0</a:t>
            </a: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 − 1 </a:t>
            </a:r>
            <a:r>
              <a:rPr b="0" i="1" lang="ru-RU" sz="2800" spc="-1" strike="noStrike">
                <a:solidFill>
                  <a:srgbClr val="000099"/>
                </a:solidFill>
                <a:latin typeface="Arial"/>
              </a:rPr>
              <a:t>e</a:t>
            </a:r>
            <a:r>
              <a:rPr b="0" lang="ru-RU" sz="2800" spc="-1" strike="noStrike" baseline="30000">
                <a:solidFill>
                  <a:srgbClr val="000099"/>
                </a:solidFill>
                <a:latin typeface="Arial"/>
              </a:rPr>
              <a:t>−</a:t>
            </a: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 = H</a:t>
            </a:r>
            <a:r>
              <a:rPr b="0" lang="ru-RU" sz="2800" spc="-1" strike="noStrike" baseline="30000">
                <a:solidFill>
                  <a:srgbClr val="000099"/>
                </a:solidFill>
                <a:latin typeface="Arial"/>
              </a:rPr>
              <a:t>+ </a:t>
            </a: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(ион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трицательные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ru-RU" sz="2800" spc="-1" strike="noStrike">
                <a:solidFill>
                  <a:srgbClr val="990033"/>
                </a:solidFill>
                <a:latin typeface="Arial"/>
              </a:rPr>
              <a:t>анионами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от греч. anion, буквально идущий вверх)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</a:t>
            </a:r>
            <a:r>
              <a:rPr b="0" lang="en-US" sz="2800" spc="-1" strike="noStrike" baseline="30000">
                <a:solidFill>
                  <a:srgbClr val="000099"/>
                </a:solidFill>
                <a:latin typeface="Arial"/>
              </a:rPr>
              <a:t>0</a:t>
            </a:r>
            <a:r>
              <a:rPr b="0" lang="en-US" sz="3600" spc="-1" strike="noStrike">
                <a:solidFill>
                  <a:srgbClr val="000099"/>
                </a:solidFill>
                <a:latin typeface="Arial"/>
              </a:rPr>
              <a:t> + </a:t>
            </a: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1 </a:t>
            </a:r>
            <a:r>
              <a:rPr b="0" i="1" lang="ru-RU" sz="2800" spc="-1" strike="noStrike">
                <a:solidFill>
                  <a:srgbClr val="000099"/>
                </a:solidFill>
                <a:latin typeface="Arial"/>
              </a:rPr>
              <a:t>e</a:t>
            </a:r>
            <a:r>
              <a:rPr b="0" lang="ru-RU" sz="2800" spc="-1" strike="noStrike" baseline="30000">
                <a:solidFill>
                  <a:srgbClr val="000099"/>
                </a:solidFill>
                <a:latin typeface="Arial"/>
              </a:rPr>
              <a:t>−</a:t>
            </a: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=Cl </a:t>
            </a:r>
            <a:r>
              <a:rPr b="0" lang="en-US" sz="2800" spc="-1" strike="noStrike" baseline="30000">
                <a:solidFill>
                  <a:srgbClr val="000099"/>
                </a:solidFill>
                <a:latin typeface="Arial"/>
                <a:ea typeface="Arial"/>
              </a:rPr>
              <a:t>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8416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Валентно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211280" y="1557360"/>
            <a:ext cx="447516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(от лат. </a:t>
            </a:r>
            <a:r>
              <a:rPr b="0" lang="ru-RU" sz="3600" spc="-1" strike="noStrike">
                <a:solidFill>
                  <a:srgbClr val="990033"/>
                </a:solidFill>
                <a:latin typeface="Arial"/>
              </a:rPr>
              <a:t>valentia – сила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),способность атома присоединять или замещать определенное число других атомов или атомных групп с образованием химической связ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4" descr="молекулы воды и пара"/>
          <p:cNvPicPr/>
          <p:nvPr/>
        </p:nvPicPr>
        <p:blipFill>
          <a:blip r:embed="rId1"/>
          <a:stretch/>
        </p:blipFill>
        <p:spPr>
          <a:xfrm>
            <a:off x="428760" y="1500120"/>
            <a:ext cx="407196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Закон сохранения масс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асса веществ, вступивших в реакцию, равна массе всех продуктов реакц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Периодический зако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войства простых веществ, а также формы и свойства соединений элементов находятся в периодической зависимости от заряда ядра элемен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сновные законы хим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Номер слайда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4F532-2430-4831-BC7A-9092E2497EE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Закон постоянства соста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ждое вещество, каким бы способом оно ни было получено, всегда имеет один и тот же качественный и количественный состав (и свойства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Закон эквивален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ещества взаимодействуют между собой в количествах, пропорциональных их эквивалент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сновные законы хим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Номер слайда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7F930-F669-410A-A8C8-676C9D565B2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91520" cy="108108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Химия 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–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979280" y="1980720"/>
            <a:ext cx="67071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аука о превращениях веществ, связанных с изменение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электронного окружения атомных яде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4" descr="2 колбы"/>
          <p:cNvPicPr/>
          <p:nvPr/>
        </p:nvPicPr>
        <p:blipFill>
          <a:blip r:embed="rId1"/>
          <a:stretch/>
        </p:blipFill>
        <p:spPr>
          <a:xfrm>
            <a:off x="250920" y="2349360"/>
            <a:ext cx="173988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457200" y="1213920"/>
            <a:ext cx="8229600" cy="465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Закон кратных отноше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сли два элемента образуют между собой несколько соединений, то массовые доли любого из элементов в этих соединениях относятся друг к другу как небольшие целые чис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Закон объемных отноше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ъемы вступающих в реакцию газов, а также объемы газообразных продуктов реакции относятся друг к другу как простые целые чис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1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сновные законы хим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Номер слайда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BA7AA-38CA-47C8-A4DA-0FB31D2155F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Закон Авогадр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равных объемах различных газов при одинаковых условиях (температура и давление) содержится одинаковое число молеку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Следствия из закона Авогадр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 При одинаковых условиях равные количества различных газов занимают равные объем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 При н.у. (Т = 273,15 К, Р = 1,01 ∙ 10</a:t>
            </a:r>
            <a:r>
              <a:rPr b="0" lang="ru-RU" sz="28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Па или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= 0 </a:t>
            </a:r>
            <a:r>
              <a:rPr b="0" lang="ru-RU" sz="2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̊С; Р = 1 атм) 1 моль любого газа занимает объем, примерно равный 22,4 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сновные законы хим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Номер слайда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3C7B8-661D-4B55-9196-D026001E50B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457200" y="1142640"/>
            <a:ext cx="84009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Объединенный газовый зако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де Р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Т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значения давления,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ъема, температуры при н.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Уравнение Клайперона-Менделеева (для идеального газ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ν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, где Р - давление;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объем;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ν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количество газа (моль); Т – температура (в К),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универсальная газовая постоянная 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= 8,314 Дж/ моль ∙ К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сновные законы хим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Номер слайда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12525-61CA-41EE-9D88-13D4F8AF2AE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11"/>
          <p:cNvSpPr/>
          <p:nvPr/>
        </p:nvSpPr>
        <p:spPr>
          <a:xfrm>
            <a:off x="0" y="1123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1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16"/>
          <p:cNvSpPr/>
          <p:nvPr/>
        </p:nvSpPr>
        <p:spPr>
          <a:xfrm>
            <a:off x="0" y="1123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1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17" descr=""/>
          <p:cNvPicPr/>
          <p:nvPr/>
        </p:nvPicPr>
        <p:blipFill>
          <a:blip r:embed="rId1"/>
          <a:stretch/>
        </p:blipFill>
        <p:spPr>
          <a:xfrm>
            <a:off x="6572160" y="2143080"/>
            <a:ext cx="2210040" cy="1357200"/>
          </a:xfrm>
          <a:prstGeom prst="rect">
            <a:avLst/>
          </a:prstGeom>
          <a:ln w="0">
            <a:noFill/>
          </a:ln>
        </p:spPr>
      </p:pic>
      <p:sp>
        <p:nvSpPr>
          <p:cNvPr id="179" name="Rectangle 19"/>
          <p:cNvSpPr/>
          <p:nvPr/>
        </p:nvSpPr>
        <p:spPr>
          <a:xfrm>
            <a:off x="0" y="1123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8416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Д.И.Менделеев*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843280" y="1557000"/>
            <a:ext cx="61214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"Ближайший предмет хими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ставляе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учени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днородных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ществ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 сложения которых составлен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е тела мира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вращений их друг в друг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явлений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ровождающих такие превращения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*Менделеев Д. Основы Химии 6-е издание С-Пб, тип. В.Демакова, 1895.– 780 с., с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портрет Д"/>
          <p:cNvPicPr/>
          <p:nvPr/>
        </p:nvPicPr>
        <p:blipFill>
          <a:blip r:embed="rId1"/>
          <a:stretch/>
        </p:blipFill>
        <p:spPr>
          <a:xfrm>
            <a:off x="285840" y="1628640"/>
            <a:ext cx="271440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1108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Веществ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03280" y="1267920"/>
            <a:ext cx="728352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ид материи, которая обладает массой покоя. Состоит из элементарных частиц: электронов, протонов, нейтронов, мезонов и д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Химия изучает главным образом вещество, организованное в атомы, молекулы, ионы и радикалы. Так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ещества принято подразделять 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стые и сложные (хим. соединения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4" descr="колбы 3"/>
          <p:cNvPicPr/>
          <p:nvPr/>
        </p:nvPicPr>
        <p:blipFill>
          <a:blip r:embed="rId1"/>
          <a:stretch/>
        </p:blipFill>
        <p:spPr>
          <a:xfrm>
            <a:off x="179280" y="1341360"/>
            <a:ext cx="1656000" cy="23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Тело и вещество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0040" y="157140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Monotype Corsiva"/>
              </a:rPr>
              <a:t>Что мы сажаем,</a:t>
            </a: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Monotype Corsiva"/>
              </a:rPr>
              <a:t>Сажая Леса?</a:t>
            </a: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Monotype Corsiva"/>
              </a:rPr>
              <a:t>Легкие крылья —</a:t>
            </a: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Monotype Corsiva"/>
              </a:rPr>
              <a:t>Лететь в небеса.</a:t>
            </a: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Monotype Corsiva"/>
              </a:rPr>
              <a:t>Стол, за которым</a:t>
            </a: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Monotype Corsiva"/>
              </a:rPr>
              <a:t>Ты будешь писать,</a:t>
            </a: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Monotype Corsiva"/>
              </a:rPr>
              <a:t>Ручку,</a:t>
            </a: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Monotype Corsiva"/>
              </a:rPr>
              <a:t>Линейку,</a:t>
            </a: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Monotype Corsiva"/>
              </a:rPr>
              <a:t>Пенал</a:t>
            </a: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Monotype Corsiva"/>
              </a:rPr>
              <a:t>И тетрадь.</a:t>
            </a: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         Я. Марша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4" descr="Безымянный"/>
          <p:cNvPicPr/>
          <p:nvPr/>
        </p:nvPicPr>
        <p:blipFill>
          <a:blip r:embed="rId1"/>
          <a:stretch/>
        </p:blipFill>
        <p:spPr>
          <a:xfrm>
            <a:off x="611280" y="1628640"/>
            <a:ext cx="2174760" cy="41054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" descr="графика Думай"/>
          <p:cNvPicPr/>
          <p:nvPr/>
        </p:nvPicPr>
        <p:blipFill>
          <a:blip r:embed="rId2"/>
          <a:stretch/>
        </p:blipFill>
        <p:spPr>
          <a:xfrm>
            <a:off x="6500880" y="1773360"/>
            <a:ext cx="2074680" cy="34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9558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Простые вещест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214800" y="1571760"/>
            <a:ext cx="5472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разованы атомами одного химического элемента и потому являются формой его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уществования в свободном состояни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пример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33"/>
                </a:solidFill>
                <a:latin typeface="Arial"/>
              </a:rPr>
              <a:t>сера, железо, озон, алмаз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4" descr="алмазы(диаманты)"/>
          <p:cNvPicPr/>
          <p:nvPr/>
        </p:nvPicPr>
        <p:blipFill>
          <a:blip r:embed="rId1"/>
          <a:stretch/>
        </p:blipFill>
        <p:spPr>
          <a:xfrm>
            <a:off x="357120" y="1571760"/>
            <a:ext cx="2857680" cy="471492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5"/>
          <p:cNvSpPr/>
          <p:nvPr/>
        </p:nvSpPr>
        <p:spPr>
          <a:xfrm>
            <a:off x="1116000" y="400536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лмаз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9558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Сложные вещест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6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бразованы разными элементами и могут иметь состав постоянный (стехиометрические соедин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или </a:t>
            </a:r>
            <a:r>
              <a:rPr b="1" i="1" lang="ru-RU" sz="3600" spc="-1" strike="noStrike">
                <a:solidFill>
                  <a:srgbClr val="990033"/>
                </a:solidFill>
                <a:latin typeface="Arial"/>
              </a:rPr>
              <a:t>дальтониды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) или меняющийся в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екоторых пределах   (нестехиометрически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оединения ил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990033"/>
                </a:solidFill>
                <a:latin typeface="Arial"/>
              </a:rPr>
              <a:t>бертоллиды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4" descr="кристаллы соли"/>
          <p:cNvPicPr/>
          <p:nvPr/>
        </p:nvPicPr>
        <p:blipFill>
          <a:blip r:embed="rId1"/>
          <a:stretch/>
        </p:blipFill>
        <p:spPr>
          <a:xfrm>
            <a:off x="5867280" y="4437000"/>
            <a:ext cx="2665440" cy="184968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5"/>
          <p:cNvSpPr/>
          <p:nvPr/>
        </p:nvSpPr>
        <p:spPr>
          <a:xfrm>
            <a:off x="4840200" y="6184800"/>
            <a:ext cx="412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ристаллы поваренной соли -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0016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Смеси вещест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348000" y="1981080"/>
            <a:ext cx="5338800" cy="46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меси – системы, состоящие из двух или более веществ, свойства которых сохраняются, а сами вещества могут быть разделены друг от друг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5" descr="ребенок-рис.1"/>
          <p:cNvPicPr/>
          <p:nvPr/>
        </p:nvPicPr>
        <p:blipFill>
          <a:blip r:embed="rId1"/>
          <a:stretch/>
        </p:blipFill>
        <p:spPr>
          <a:xfrm>
            <a:off x="500040" y="1785960"/>
            <a:ext cx="3186000" cy="38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95280" y="456840"/>
            <a:ext cx="8291520" cy="102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990033"/>
                </a:solidFill>
                <a:latin typeface="Arial"/>
              </a:rPr>
              <a:t>Вещества делятся по происхождени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5" descr="3-01"/>
          <p:cNvPicPr/>
          <p:nvPr/>
        </p:nvPicPr>
        <p:blipFill>
          <a:blip r:embed="rId1"/>
          <a:stretch/>
        </p:blipFill>
        <p:spPr>
          <a:xfrm>
            <a:off x="468360" y="1844640"/>
            <a:ext cx="820728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29T14:13:20Z</dcterms:created>
  <dc:creator>Kim</dc:creator>
  <dc:description/>
  <dc:language>en-US</dc:language>
  <cp:lastModifiedBy>Admin</cp:lastModifiedBy>
  <dcterms:modified xsi:type="dcterms:W3CDTF">2012-12-18T12:06:45Z</dcterms:modified>
  <cp:revision>13</cp:revision>
  <dc:subject/>
  <dc:title>Основные понятия химии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32060000000000010250300207f7000400038000</vt:lpwstr>
  </property>
</Properties>
</file>